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D6FA-4F4C-4977-AB54-ECD7E8B6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6B8D-7D2A-42AD-B0F2-D4E59311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CB58-E82E-4469-9861-A39E5BF8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F74F-4DF0-460D-B4D6-1F355D07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27D9-45CD-45EA-9430-E7F51871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738A-6AE9-48A9-AAA3-ED6B699C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BFB4-3191-4094-A462-39D4BF82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5711-C86C-44A9-9D40-ED73460E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80D0-4FF3-4DE5-8A72-FCA88C90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2A74-D423-424B-9B6A-49B71447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9353-4335-44CD-A1EB-6980E276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2247-5BEC-4C21-9BC6-9F2EBABC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cf22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EF7E-E87F-4837-B4C1-5F3CD54F8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cf22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chto384"/>
          <p:cNvPicPr/>
          <p:nvPr/>
        </p:nvPicPr>
        <p:blipFill>
          <a:blip r:embed="rId1"/>
          <a:stretch/>
        </p:blipFill>
        <p:spPr>
          <a:xfrm>
            <a:off x="1403280" y="620640"/>
            <a:ext cx="662472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cf22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Худякова И.В\Рабочий стол\кл.час о зоровье\artemisia_vulgaris.jpg"/>
          <p:cNvPicPr/>
          <p:nvPr/>
        </p:nvPicPr>
        <p:blipFill>
          <a:blip r:embed="rId1"/>
          <a:stretch/>
        </p:blipFill>
        <p:spPr>
          <a:xfrm>
            <a:off x="4140360" y="3141720"/>
            <a:ext cx="4813200" cy="3500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602240" cy="5157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59280" y="47628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ерёмух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573408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лы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cf22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Худякова И.В\Рабочий стол\кл.час о зоровье\luk.jpg"/>
          <p:cNvPicPr/>
          <p:nvPr/>
        </p:nvPicPr>
        <p:blipFill>
          <a:blip r:embed="rId1"/>
          <a:stretch/>
        </p:blipFill>
        <p:spPr>
          <a:xfrm>
            <a:off x="4518000" y="0"/>
            <a:ext cx="4626000" cy="4929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Documents and Settings\Худякова И.В\Рабочий стол\кл.час о зоровье\1737596.jpg"/>
          <p:cNvPicPr/>
          <p:nvPr/>
        </p:nvPicPr>
        <p:blipFill>
          <a:blip r:embed="rId2"/>
          <a:stretch/>
        </p:blipFill>
        <p:spPr>
          <a:xfrm>
            <a:off x="0" y="882720"/>
            <a:ext cx="450072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cf22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Худякова И.В\Рабочий стол\кл.час о зоровье\2128584.jpg"/>
          <p:cNvPicPr/>
          <p:nvPr/>
        </p:nvPicPr>
        <p:blipFill>
          <a:blip r:embed="rId1"/>
          <a:stretch/>
        </p:blipFill>
        <p:spPr>
          <a:xfrm>
            <a:off x="293760" y="260280"/>
            <a:ext cx="8670960" cy="4508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26920" y="515772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Солнце, воздух и 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cf22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95280" y="1484280"/>
            <a:ext cx="828036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Хочешь быть здоров -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будь им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cf22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3638520" cy="592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140360" y="476280"/>
            <a:ext cx="4755960" cy="244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427640" y="3284640"/>
            <a:ext cx="41716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cf22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3729240" cy="4397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4372200" cy="334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148360" y="1557360"/>
            <a:ext cx="37846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cf22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552920" cy="3305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140360" y="2665440"/>
            <a:ext cx="474660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cf22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51280" y="2781360"/>
            <a:ext cx="4932360" cy="3630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3375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cf22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95280" y="1484280"/>
            <a:ext cx="828036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Хочешь быть здоров -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будь им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cf22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ff0000"/>
                </a:solidFill>
                <a:latin typeface="Blackadder ITC"/>
              </a:rPr>
              <a:t>Кодекс здоровья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42560" y="1071360"/>
            <a:ext cx="85438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Bodoni MT"/>
              </a:rPr>
              <a:t>А)</a:t>
            </a:r>
            <a:r>
              <a:rPr b="0" lang="en-US" sz="3200" spc="-1" strike="noStrike">
                <a:solidFill>
                  <a:srgbClr val="000099"/>
                </a:solidFill>
                <a:latin typeface="Bodoni MT"/>
              </a:rPr>
              <a:t> Не курить, не употреблять алкогольные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Bodoni MT"/>
              </a:rPr>
              <a:t>напит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Bodoni MT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Bodoni MT"/>
              </a:rPr>
              <a:t>Б)</a:t>
            </a:r>
            <a:r>
              <a:rPr b="0" lang="en-US" sz="3200" spc="-1" strike="noStrike">
                <a:solidFill>
                  <a:srgbClr val="000099"/>
                </a:solidFill>
                <a:latin typeface="Bodoni MT"/>
              </a:rPr>
              <a:t> Заниматься спорт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Bodoni MT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Bodoni MT"/>
              </a:rPr>
              <a:t>В)</a:t>
            </a:r>
            <a:r>
              <a:rPr b="0" lang="en-US" sz="3200" spc="-1" strike="noStrike">
                <a:solidFill>
                  <a:srgbClr val="000099"/>
                </a:solidFill>
                <a:latin typeface="Bodoni MT"/>
              </a:rPr>
              <a:t> Почаще есть рыбу, овощи, фрук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Bodoni MT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Bodoni MT"/>
              </a:rPr>
              <a:t>Г)</a:t>
            </a:r>
            <a:r>
              <a:rPr b="0" lang="en-US" sz="3200" spc="-1" strike="noStrike">
                <a:solidFill>
                  <a:srgbClr val="000099"/>
                </a:solidFill>
                <a:latin typeface="Bodoni MT"/>
              </a:rPr>
              <a:t> Дышать свежим воздух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Bodoni MT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Bodoni MT"/>
              </a:rPr>
              <a:t>Д)</a:t>
            </a:r>
            <a:r>
              <a:rPr b="0" lang="en-US" sz="3200" spc="-1" strike="noStrike">
                <a:solidFill>
                  <a:srgbClr val="000099"/>
                </a:solidFill>
                <a:latin typeface="Bodoni MT"/>
              </a:rPr>
              <a:t> Пить воду, молоко, соки, ча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Bodoni MT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Bodoni MT"/>
              </a:rPr>
              <a:t>Е)</a:t>
            </a:r>
            <a:r>
              <a:rPr b="0" lang="en-US" sz="3200" spc="-1" strike="noStrike">
                <a:solidFill>
                  <a:srgbClr val="000099"/>
                </a:solidFill>
                <a:latin typeface="Bodoni MT"/>
              </a:rPr>
              <a:t> Как можно больше ход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Bodoni MT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Bodoni MT"/>
              </a:rPr>
              <a:t>Ж)</a:t>
            </a:r>
            <a:r>
              <a:rPr b="0" lang="en-US" sz="3200" spc="-1" strike="noStrike">
                <a:solidFill>
                  <a:srgbClr val="000099"/>
                </a:solidFill>
                <a:latin typeface="Bodoni MT"/>
              </a:rPr>
              <a:t> Спать достаточ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Bodoni MT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Bodoni MT"/>
              </a:rPr>
              <a:t>З)</a:t>
            </a:r>
            <a:r>
              <a:rPr b="0" lang="en-US" sz="3200" spc="-1" strike="noStrike">
                <a:solidFill>
                  <a:srgbClr val="000099"/>
                </a:solidFill>
                <a:latin typeface="Bodoni MT"/>
              </a:rPr>
              <a:t> Проявлять доброжелатель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Bodoni MT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Bodoni MT"/>
              </a:rPr>
              <a:t>И)</a:t>
            </a:r>
            <a:r>
              <a:rPr b="0" lang="en-US" sz="3200" spc="-1" strike="noStrike">
                <a:solidFill>
                  <a:srgbClr val="000099"/>
                </a:solidFill>
                <a:latin typeface="Bodoni MT"/>
              </a:rPr>
              <a:t> Чаще улыба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Bodoni MT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Bodoni MT"/>
              </a:rPr>
              <a:t>К)</a:t>
            </a:r>
            <a:r>
              <a:rPr b="0" lang="en-US" sz="3200" spc="-1" strike="noStrike">
                <a:solidFill>
                  <a:srgbClr val="000099"/>
                </a:solidFill>
                <a:latin typeface="Bodoni MT"/>
              </a:rPr>
              <a:t> Любить жиз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Bodoni M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cf22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Худякова И.В\Рабочий стол\кл.час о зоровье\skola.jpg"/>
          <p:cNvPicPr/>
          <p:nvPr/>
        </p:nvPicPr>
        <p:blipFill>
          <a:blip r:embed="rId1"/>
          <a:stretch/>
        </p:blipFill>
        <p:spPr>
          <a:xfrm>
            <a:off x="2700360" y="0"/>
            <a:ext cx="6443640" cy="4832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cuments and Settings\Худякова И.В\Рабочий стол\кл.час о зоровье\salat_iz_kuritsyi.jpg"/>
          <p:cNvPicPr/>
          <p:nvPr/>
        </p:nvPicPr>
        <p:blipFill>
          <a:blip r:embed="rId2"/>
          <a:stretch/>
        </p:blipFill>
        <p:spPr>
          <a:xfrm>
            <a:off x="0" y="3105000"/>
            <a:ext cx="50036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cf22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5280" y="1484280"/>
            <a:ext cx="828036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Хочешь быть здоров -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будь им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cf22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4800" spc="-1" strike="noStrike">
                <a:solidFill>
                  <a:srgbClr val="ff0000"/>
                </a:solidFill>
                <a:latin typeface="Blackadder ITC"/>
              </a:rPr>
              <a:t>Домашнее задание</a:t>
            </a:r>
            <a:r>
              <a:rPr b="1" i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2708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Нарисовать рисунок на тему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Я за здоровый образ жизни”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doni M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cf22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Возьмите  чашу  терпения, влейте  в  нее  полное  сердце  любви, добавьте  2 горсти  щедрости, посыпьте  добротой, плесните  немного  юмора  и  добавьте  как  можно  больше  веры. Все  это  хорошо  перемешайте. Намажьте  на  кусок  отпущенной  вам  жизни  и  предлагайте  каждому, кого   встретите  на  своем  пути.</a:t>
            </a:r>
            <a:r>
              <a:rPr b="0" lang="en-US" sz="32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WordArt 6"/>
          <p:cNvSpPr txBox="1"/>
          <p:nvPr/>
        </p:nvSpPr>
        <p:spPr>
          <a:xfrm>
            <a:off x="250920" y="260280"/>
            <a:ext cx="86011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ый лучший рецепт здоровья и счасть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cf22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3" descr=""/>
          <p:cNvPicPr/>
          <p:nvPr/>
        </p:nvPicPr>
        <p:blipFill>
          <a:blip r:embed="rId1"/>
          <a:stretch/>
        </p:blipFill>
        <p:spPr>
          <a:xfrm>
            <a:off x="-341280" y="1523880"/>
            <a:ext cx="1008216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cf22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Худякова И.В\Рабочий стол\кл.час о зоровье\mojdodyr.0-04-48.jpg"/>
          <p:cNvPicPr/>
          <p:nvPr/>
        </p:nvPicPr>
        <p:blipFill>
          <a:blip r:embed="rId1"/>
          <a:stretch/>
        </p:blipFill>
        <p:spPr>
          <a:xfrm>
            <a:off x="755640" y="568440"/>
            <a:ext cx="7777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cf22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Documents and Settings\Худякова И.В\Рабочий стол\кл.час о зоровье\f_10969988.jpg"/>
          <p:cNvPicPr/>
          <p:nvPr/>
        </p:nvPicPr>
        <p:blipFill>
          <a:blip r:embed="rId1"/>
          <a:stretch/>
        </p:blipFill>
        <p:spPr>
          <a:xfrm>
            <a:off x="468360" y="404640"/>
            <a:ext cx="828180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cf22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1125360"/>
            <a:ext cx="7632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1557360"/>
            <a:ext cx="80643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Здоровье</a:t>
            </a:r>
            <a:r>
              <a:rPr b="0" i="1" lang="en-US" sz="4400" spc="-1" strike="noStrike">
                <a:solidFill>
                  <a:srgbClr val="cc0000"/>
                </a:solidFill>
                <a:latin typeface="Arial"/>
              </a:rPr>
              <a:t> – то или ино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Arial"/>
              </a:rPr>
              <a:t>физическое состоя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Arial"/>
              </a:rPr>
              <a:t>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cf22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5280" y="1484280"/>
            <a:ext cx="828036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Хочешь быть здоров -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будь им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cf22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Худякова И.В\Рабочий стол\кл.час о зоровье\7240-medium.jpg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70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cf22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Худякова И.В\Рабочий стол\кл.час о зоровье\50115700_topol.jpg"/>
          <p:cNvPicPr/>
          <p:nvPr/>
        </p:nvPicPr>
        <p:blipFill>
          <a:blip r:embed="rId1"/>
          <a:stretch/>
        </p:blipFill>
        <p:spPr>
          <a:xfrm>
            <a:off x="611280" y="404640"/>
            <a:ext cx="7812000" cy="5091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627280" y="5805360"/>
            <a:ext cx="42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опо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cf22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Худякова И.В\Рабочий стол\кл.час о зоровье\Alnus_glutinosa_.jpg"/>
          <p:cNvPicPr/>
          <p:nvPr/>
        </p:nvPicPr>
        <p:blipFill>
          <a:blip r:embed="rId1"/>
          <a:stretch/>
        </p:blipFill>
        <p:spPr>
          <a:xfrm>
            <a:off x="549360" y="189000"/>
            <a:ext cx="5154480" cy="6324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940360" y="17002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льх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6:03:22Z</dcterms:created>
  <dc:creator>Худякова И.В</dc:creator>
  <dc:description/>
  <dc:language>en-US</dc:language>
  <cp:lastModifiedBy>Учитель</cp:lastModifiedBy>
  <dcterms:modified xsi:type="dcterms:W3CDTF">2010-03-02T12:05:54Z</dcterms:modified>
  <cp:revision>9</cp:revision>
  <dc:subject/>
  <dc:title>Хочешь быть здоров – будь им!</dc:title>
</cp:coreProperties>
</file>